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8814-D357-4825-87CF-A627C942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BC0-7E0A-4129-B282-8A1F2CE443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F12-D255-44A8-AFB8-ECDEDC18E5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4A9E-8E40-43E0-878B-52E98AB2BE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1BC-FCE8-49D2-BA51-4BDFF2767A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9E4-677C-4675-8DE3-14658259FD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3EBF-18A0-49DC-85F3-DBA5383B29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B47-AB92-4E26-9899-D5A8053647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E364-1D40-4EC2-A628-37E17CF41E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ADED-6528-4620-869F-343161B719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0ED-0780-4A3C-8C01-98DD16D3DA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D1D7-BA8B-4070-81E5-9EE5A7F27E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5B2-1DA5-4D4D-B7E7-CC95E00067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257-7879-44F8-A85C-99CAD06FC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555-29A7-4AA6-8AC2-8AD91E5654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2E6-CAA5-44A2-A8F2-7D2CA48684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D3B-FDC2-49B5-9E37-094D6EB2CC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EAF-579D-4EE7-BE81-B9929CB297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9FB-1511-4A46-8EE9-4DE82F9946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289-682A-45EC-B2BA-A7A1C4DD6C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651-D5FA-467A-967F-E7468B8975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FBD-721A-4931-AF4C-01944B820B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B74D-6490-4161-B06D-6A22BD5262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1A4-8DC3-43FE-BFCF-C53C5D7E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63B-0E18-46DD-87EE-773C607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F25-D1C9-4D02-911D-C89479FC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B78-EEC4-4DC5-92C3-3C05793A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C6B-3C38-4971-B653-F9F52311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ED5-5C92-483B-939F-43ECA045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C70-ADAD-4959-AE88-3E68267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77DB-3274-4370-A45F-89228B0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19E6-87FD-469C-B7F1-53080D6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D1D2-CD08-43A4-BC1B-394A51C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B19-0FC9-4FC5-8F09-BA43265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11A-247D-4588-8C41-36A2E9F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6EB2-EA0D-4A5F-BBF8-7AE7095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D4A-B2B5-4729-BDEF-96081AE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B90-BD85-4D99-A1F0-63BF011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4F0-FB7F-4F29-82B8-30CE9835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F87C-015B-406C-B458-AF513C41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E98-4E88-4E8B-8606-7833A0F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514-F45A-48D3-A7DE-CBF3280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E21-F255-4179-AE5E-1F6B4A6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4A9-8AFD-45FC-B11F-52DDE6AA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F4C-FE06-4738-9FC9-616B447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C85-6EF4-4D85-8F8C-FFDE757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29A-BD29-47EA-B2C5-965DEAD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6A6-9821-4721-A69B-B4192B5DA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1C50-F882-481C-A30D-AFE8850F08F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Organizational C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s the basic purpose of the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s how the organization differs from others in the same indu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setting priorities, strategies, and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ed by the stakeholders and turned into personalized 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sentials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ategy, Mindset, and 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or strategy choices need to be made abo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 to cre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peak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dset of the individual is important in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strategy is vital to su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of the mindset is based on the individuals experiences encountered and self-esteem that influences self-confid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ategy, Mindset, and 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isting organizational culture is the result of implemented decisions that have shaped the organization’s way of thinking and opera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ulture must be “in tune with” the strate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ak Performing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e a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e the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and make sure the basic values are follow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positive norms are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, Processes,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Spir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al goals need to be developed.  Individuals strengths and weaknesses should be recognized and accepted creating a team spir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rules and processes should be established and agreed upon by the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ositive work environment, that empowers all to participate, creates team spirit and ener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 flipV="1">
            <a:off x="1752480" y="3352320"/>
            <a:ext cx="3581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600200" y="495288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6002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105520" y="3352680"/>
            <a:ext cx="1523880" cy="18288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9"/>
          <p:cNvSpPr/>
          <p:nvPr/>
        </p:nvSpPr>
        <p:spPr>
          <a:xfrm flipV="1">
            <a:off x="1600200" y="3962520"/>
            <a:ext cx="3505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1600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21127800">
            <a:off x="2362320" y="4266720"/>
            <a:ext cx="23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Meaning =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261520" y="191124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2590920" y="2209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057400" y="26733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sonal Pow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057400" y="32828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3505320" y="31237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927320" y="29019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uman Qua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5998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286000" y="5187960"/>
            <a:ext cx="18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2590920" y="5562720"/>
            <a:ext cx="533160" cy="838080"/>
          </a:xfrm>
          <a:prstGeom prst="downArrow">
            <a:avLst>
              <a:gd name="adj1" fmla="val 50000"/>
              <a:gd name="adj2" fmla="val 3929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2209680" y="571500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sition Pow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2286000" y="640080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733920" y="53341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5029200" y="5264280"/>
            <a:ext cx="18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ical Qua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80160" y="2394000"/>
            <a:ext cx="136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Willing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mb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f-Confide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316800" y="5122800"/>
            <a:ext cx="1169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Abil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onom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peri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0"/>
          <p:cNvSpPr/>
          <p:nvPr/>
        </p:nvSpPr>
        <p:spPr>
          <a:xfrm rot="21207000">
            <a:off x="2337840" y="39178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ttun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31"/>
          <p:cNvSpPr/>
          <p:nvPr/>
        </p:nvSpPr>
        <p:spPr>
          <a:xfrm rot="21405600">
            <a:off x="2416320" y="468000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gn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1584360" y="71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1318320" y="668160"/>
            <a:ext cx="7707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Organizational Cone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 Copyright 2000 by Bo Gyllenpal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ement-Position Power-Compli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r part of the cone deals with MANAGEMENT issue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ulating the mission/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ing strategic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ng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ing tasks to be per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ement-Position Power-Compli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osition power can get people to comply BUT not always be com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stering commitment requires leadership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dership-Power Power-Commi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part of the cone deals with LEADERSHIP factor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illingness to achieve the common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fully influencing people through mutual respect and 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manage and l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C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Swedish management consultant, Bo Gyllenpal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ificant to understanding organizational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 and Attun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ottom part of the cone should be aligned and directed toward the vision or final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re alignment and attunement there are, the more energy will be generated and focused toward achieving a peak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ive 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leaders create a compelling vision of what the final state can look like, feel like, and be lik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rong and compelling vision w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shared mean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energy,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 the way toward a peak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LL areas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act in a positive mann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cus on the shared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ntastic results can be accomplished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n idea that becomes a unique image of th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s energy and will compel us to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tic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hrough images or inner pictures so that others can see its pot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 Senge says, “A shared vision is not an idea.  It is rather,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ce in people’s hea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ce of impressive pow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ve energy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reative ten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s referred to by Senge, comes from seeing clear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e want to b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ing the truth about where we are, 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urrent re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vision, there is not creative energy or t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egativ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ght or flight sy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when someone feels threatened or afr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l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sitiv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when people can see something in their minds that really attracts and excites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lasting; makes people commit to the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00800" y="5892840"/>
            <a:ext cx="80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is necessary to move toward the fu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ak Performing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tha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r see in the shared vision something that attracts their full interest and des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ptions of the vision may not be exactly the sam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visions are overlapping and  interwoven, the “energy vectors” form a c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Oval 5"/>
          <p:cNvSpPr/>
          <p:nvPr/>
        </p:nvSpPr>
        <p:spPr>
          <a:xfrm rot="5400000">
            <a:off x="1066680" y="358128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7"/>
          <p:cNvSpPr/>
          <p:nvPr/>
        </p:nvSpPr>
        <p:spPr>
          <a:xfrm flipV="1">
            <a:off x="1905120" y="3124080"/>
            <a:ext cx="4343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1981080" y="3505320"/>
            <a:ext cx="4267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1981080" y="3962160"/>
            <a:ext cx="4267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1905120" y="43434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1981080" y="3733920"/>
            <a:ext cx="4419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6172200" y="2362320"/>
            <a:ext cx="1447920" cy="2590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629400" y="2590920"/>
            <a:ext cx="53352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781680" y="2971800"/>
            <a:ext cx="53352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429000"/>
            <a:ext cx="45720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6248520" y="3276720"/>
            <a:ext cx="68580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324480" y="3809880"/>
            <a:ext cx="53352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9"/>
          <p:cNvSpPr/>
          <p:nvPr/>
        </p:nvSpPr>
        <p:spPr>
          <a:xfrm rot="20919600">
            <a:off x="3031920" y="266652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ergy Ve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7772400" y="3460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990720" y="5029200"/>
            <a:ext cx="752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focused the energy, the more focused the cone will b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est results are obtained when there is some overlap between departments and/or tea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 should make sure the cone is focused and well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starts acting outside the cone, the leader should find out why and try to redirect that individuals energy toward the c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, Purpose, and Stakehol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urpose or mission of the organization should be well defined to all stakeholders in order for them to buy in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commitment, (1) you need to create a strong emotional vision or (2) desire to be a part of the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38:33Z</dcterms:created>
  <dc:creator>Elkin City Schools</dc:creator>
  <dc:description/>
  <dc:language>en-US</dc:language>
  <cp:lastModifiedBy>AEURY</cp:lastModifiedBy>
  <dcterms:modified xsi:type="dcterms:W3CDTF">2007-11-27T21:10:22Z</dcterms:modified>
  <cp:revision>13</cp:revision>
  <dc:subject/>
  <dc:title>The Organizational Cone</dc:title>
</cp:coreProperties>
</file>